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D223-6584-42C9-82D3-4C9AF3997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38CB-2E36-42C4-8547-E0C54DC8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D58F-DD3A-43CD-BB39-C30E2639E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F15D-90F5-46F3-B0F5-C90ADA892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3514-D4EB-4254-9422-3B98C665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071F-3495-4BB3-AD7E-F6E5F458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6DD0-B429-4FB1-A312-735F140A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935B-DE28-49F1-9E9A-E5D289FE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2EBC-2AF2-42C8-9C51-1CE244CF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0FFB-6879-481C-9500-FA0264FF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318B-B3F7-479E-A884-47EB56A6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7E30-227E-4CDA-A8F0-927A5DBA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21BA-45FB-4553-BB68-E3E7E4ACBD7A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7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71320" y="4500720"/>
            <a:ext cx="8358120" cy="78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lvl="1" marL="401040" indent="-154080" algn="ctr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lvl="1" marL="401040" indent="-154080" algn="ctr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lvl="1" marL="401040" indent="-154080" algn="ctr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lvl="1" marL="401040" indent="-154080" algn="ctr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lvl="1" marL="401040" indent="-154080" algn="ctr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lvl="1" marL="401040" indent="-154080" algn="ctr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lvl="1" marL="401040" indent="-154080" algn="ctr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lvl="1" marL="401040" indent="-154080" algn="ctr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lvl="1" marL="401040" indent="-1540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МК «Английский язык» авт.  О. В. Афанасьева, И. В. Михеева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3" name="Прямоугольник 4" descr=""/>
          <p:cNvPicPr/>
          <p:nvPr/>
        </p:nvPicPr>
        <p:blipFill>
          <a:blip r:embed="rId1"/>
          <a:stretch/>
        </p:blipFill>
        <p:spPr>
          <a:xfrm>
            <a:off x="633240" y="12600"/>
            <a:ext cx="8156880" cy="6120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5"/>
          <p:cNvSpPr/>
          <p:nvPr/>
        </p:nvSpPr>
        <p:spPr>
          <a:xfrm>
            <a:off x="714240" y="3500280"/>
            <a:ext cx="771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Автор работы – учитель английского языка Порожняя Наталья Алексеевна, МБОУ СОШ №1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499680"/>
            <a:ext cx="892980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nn said:”Jack went home.”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nn said Jack </a:t>
            </a:r>
            <a:r>
              <a:rPr b="1" i="1" lang="en-US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ad gone </a:t>
            </a: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ome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858160" cy="46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red said:”I have done it.”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red </a:t>
            </a:r>
            <a:r>
              <a:rPr b="0" lang="en-US" sz="6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explained</a:t>
            </a: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e had done </a:t>
            </a: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t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8458200" y="6324480"/>
            <a:ext cx="457200" cy="3812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2560" y="356760"/>
            <a:ext cx="9001080" cy="500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Kevin said: “I have been coughing for a week.”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Kevin </a:t>
            </a:r>
            <a:r>
              <a:rPr b="0" lang="en-US" sz="6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explained</a:t>
            </a: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e had been coughing</a:t>
            </a:r>
            <a:r>
              <a:rPr b="0" i="1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or a week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2560" y="785880"/>
            <a:ext cx="9001080" cy="49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e said: “We shall win the game.”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e said we </a:t>
            </a:r>
            <a:r>
              <a:rPr b="1" i="1" lang="en-US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should win</a:t>
            </a:r>
            <a:r>
              <a:rPr b="1" lang="en-US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game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8458200" y="6324480"/>
            <a:ext cx="457200" cy="3812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ere  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</a:t>
            </a: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there</a:t>
            </a:r>
            <a:br>
              <a:rPr sz="4400"/>
            </a:b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his  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that</a:t>
            </a:r>
            <a:br>
              <a:rPr sz="4400"/>
            </a:b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oday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</a:t>
            </a: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that day</a:t>
            </a:r>
            <a:br>
              <a:rPr sz="4400"/>
            </a:b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go  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</a:t>
            </a: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before</a:t>
            </a:r>
            <a:br>
              <a:rPr sz="4400"/>
            </a:b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ow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then</a:t>
            </a:r>
            <a:br>
              <a:rPr sz="4400"/>
            </a:b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hese                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</a:t>
            </a: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hose</a:t>
            </a:r>
            <a:br>
              <a:rPr sz="4400"/>
            </a:b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yesterday          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</a:t>
            </a: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he day before</a:t>
            </a:r>
            <a:br>
              <a:rPr sz="4400"/>
            </a:b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ast week       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</a:t>
            </a: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he previous week</a:t>
            </a:r>
            <a:br>
              <a:rPr sz="4400"/>
            </a:b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omorrow          the next 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Стрелка вправо 5"/>
          <p:cNvSpPr/>
          <p:nvPr/>
        </p:nvSpPr>
        <p:spPr>
          <a:xfrm>
            <a:off x="3286080" y="5143680"/>
            <a:ext cx="714600" cy="35712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Стрелка вправо 6"/>
          <p:cNvSpPr/>
          <p:nvPr/>
        </p:nvSpPr>
        <p:spPr>
          <a:xfrm>
            <a:off x="3357720" y="3143160"/>
            <a:ext cx="714240" cy="357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Стрелка вправо 7"/>
          <p:cNvSpPr/>
          <p:nvPr/>
        </p:nvSpPr>
        <p:spPr>
          <a:xfrm>
            <a:off x="3357720" y="3786120"/>
            <a:ext cx="714240" cy="357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Стрелка вправо 8"/>
          <p:cNvSpPr/>
          <p:nvPr/>
        </p:nvSpPr>
        <p:spPr>
          <a:xfrm>
            <a:off x="3357720" y="4500720"/>
            <a:ext cx="714240" cy="357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Стрелка вправо 9"/>
          <p:cNvSpPr/>
          <p:nvPr/>
        </p:nvSpPr>
        <p:spPr>
          <a:xfrm>
            <a:off x="3357720" y="5786280"/>
            <a:ext cx="714240" cy="35748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Стрелка вправо 10"/>
          <p:cNvSpPr/>
          <p:nvPr/>
        </p:nvSpPr>
        <p:spPr>
          <a:xfrm>
            <a:off x="3286080" y="1143000"/>
            <a:ext cx="714600" cy="35712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Стрелка вправо 11"/>
          <p:cNvSpPr/>
          <p:nvPr/>
        </p:nvSpPr>
        <p:spPr>
          <a:xfrm>
            <a:off x="3357720" y="1785960"/>
            <a:ext cx="714240" cy="357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Стрелка вправо 12"/>
          <p:cNvSpPr/>
          <p:nvPr/>
        </p:nvSpPr>
        <p:spPr>
          <a:xfrm>
            <a:off x="3357720" y="2500200"/>
            <a:ext cx="714240" cy="35748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Стрелка вправо 13"/>
          <p:cNvSpPr/>
          <p:nvPr/>
        </p:nvSpPr>
        <p:spPr>
          <a:xfrm>
            <a:off x="3357720" y="500040"/>
            <a:ext cx="714240" cy="357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214280"/>
            <a:ext cx="8229600" cy="507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He said:”I can’t translate </a:t>
            </a:r>
            <a:r>
              <a:rPr b="0" i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is</a:t>
            </a:r>
            <a:r>
              <a:rPr b="0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article.”</a:t>
            </a:r>
            <a:br>
              <a:rPr sz="4400"/>
            </a:br>
            <a:r>
              <a:rPr b="0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e said he couldn’t translate </a:t>
            </a:r>
            <a:r>
              <a:rPr b="1" i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hat</a:t>
            </a: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rticle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He said:”I was </a:t>
            </a:r>
            <a:r>
              <a:rPr b="0" i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ere yesterday</a:t>
            </a:r>
            <a:r>
              <a:rPr b="0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”</a:t>
            </a:r>
            <a:br>
              <a:rPr sz="4400"/>
            </a:br>
            <a:r>
              <a:rPr b="0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e said that he had been </a:t>
            </a:r>
            <a:r>
              <a:rPr b="1" i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here the day before.</a:t>
            </a:r>
            <a:br>
              <a:rPr sz="4400"/>
            </a:br>
            <a:br>
              <a:rPr sz="36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8458200" y="6324480"/>
            <a:ext cx="457200" cy="3812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1571400"/>
            <a:ext cx="8229600" cy="26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ли прямая речь является вопросительным предложением (</a:t>
            </a:r>
            <a:r>
              <a:rPr b="0" i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ямым вопросом</a:t>
            </a: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, то при обращении в косвенную она становится дополнительным придаточным предложением (</a:t>
            </a:r>
            <a:r>
              <a:rPr b="0" i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свенным вопросом</a:t>
            </a: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378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 типа прямых вопросов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8458200" y="6324480"/>
            <a:ext cx="457200" cy="3812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19" name="Прямая со стрелкой 5"/>
          <p:cNvCxnSpPr/>
          <p:nvPr/>
        </p:nvCxnSpPr>
        <p:spPr>
          <a:xfrm flipH="1">
            <a:off x="2642760" y="2142000"/>
            <a:ext cx="1215360" cy="50076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20" name="Прямая со стрелкой 7"/>
          <p:cNvCxnSpPr/>
          <p:nvPr/>
        </p:nvCxnSpPr>
        <p:spPr>
          <a:xfrm>
            <a:off x="5643360" y="2143080"/>
            <a:ext cx="1215000" cy="57240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21" name="TextBox 8"/>
          <p:cNvSpPr/>
          <p:nvPr/>
        </p:nvSpPr>
        <p:spPr>
          <a:xfrm>
            <a:off x="500040" y="3071880"/>
            <a:ext cx="3643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пециальные вопросы</a:t>
            </a:r>
            <a:r>
              <a:rPr b="1" i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, 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чинающиеся 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who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,</a:t>
            </a:r>
            <a:r>
              <a:rPr b="1" i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which, whose, when, why, how, how many, how much, how long,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5500800" y="3071880"/>
            <a:ext cx="3071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бщие вопросы, начинающиеся с вспомогательного или модального глагол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гда прямой вопрос начинается с </a:t>
            </a: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опросительного слова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ли группы слов, то при обращении его в косвенный вопрос производятся следующие изменения:</a:t>
            </a:r>
            <a:br>
              <a:rPr sz="3200"/>
            </a:br>
            <a:r>
              <a:rPr b="0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вопросительный знак опускается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и </a:t>
            </a:r>
            <a:r>
              <a:rPr b="0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вопросительный порядок слов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прямом вопросе </a:t>
            </a:r>
            <a:r>
              <a:rPr b="0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заменяется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орядком слов </a:t>
            </a: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вествовательного предложения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теми же изменениями, как и в повествовательных предложениях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просительное слово служит для присоединения косвенного вопроса к главному предложению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92880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He asked me:”Why have you come so late?”</a:t>
            </a:r>
            <a:br>
              <a:rPr sz="4400"/>
            </a:b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e asked me </a:t>
            </a:r>
            <a:r>
              <a:rPr b="1" i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why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I </a:t>
            </a:r>
            <a:r>
              <a:rPr b="1" i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ad come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o late.</a:t>
            </a:r>
            <a:br>
              <a:rPr sz="4400"/>
            </a:b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He asked me:”Where do you live?”</a:t>
            </a:r>
            <a:br>
              <a:rPr sz="4400"/>
            </a:b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e asked me </a:t>
            </a:r>
            <a:r>
              <a:rPr b="1" i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where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I</a:t>
            </a:r>
            <a:r>
              <a:rPr b="1" i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ived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8458200" y="6324480"/>
            <a:ext cx="457200" cy="3812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44280"/>
          <a:ext cx="9144000" cy="6742440"/>
        </p:xfrm>
        <a:graphic>
          <a:graphicData uri="http://schemas.openxmlformats.org/drawingml/2006/table">
            <a:tbl>
              <a:tblPr/>
              <a:tblGrid>
                <a:gridCol w="4643280"/>
                <a:gridCol w="4500720"/>
              </a:tblGrid>
              <a:tr h="674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Rectangle 17">
            <a:hlinkClick r:id="" action="ppaction://hlinkshowjump?jump=nextslide"/>
          </p:cNvPr>
          <p:cNvSpPr/>
          <p:nvPr/>
        </p:nvSpPr>
        <p:spPr>
          <a:xfrm>
            <a:off x="3643200" y="6000840"/>
            <a:ext cx="428760" cy="3762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" name="Управляющая кнопка: назад 10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4400640" y="463680"/>
            <a:ext cx="5060880" cy="2779560"/>
          </a:xfrm>
          <a:prstGeom prst="rect">
            <a:avLst/>
          </a:prstGeom>
          <a:ln w="0">
            <a:noFill/>
          </a:ln>
        </p:spPr>
      </p:pic>
      <p:sp>
        <p:nvSpPr>
          <p:cNvPr id="48" name="TextBox 12"/>
          <p:cNvSpPr/>
          <p:nvPr/>
        </p:nvSpPr>
        <p:spPr>
          <a:xfrm>
            <a:off x="714240" y="1357200"/>
            <a:ext cx="36435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" name="Прямоугольник 13" descr=""/>
          <p:cNvPicPr/>
          <p:nvPr/>
        </p:nvPicPr>
        <p:blipFill>
          <a:blip r:embed="rId2"/>
          <a:stretch/>
        </p:blipFill>
        <p:spPr>
          <a:xfrm>
            <a:off x="463680" y="549360"/>
            <a:ext cx="4321080" cy="2230200"/>
          </a:xfrm>
          <a:prstGeom prst="rect">
            <a:avLst/>
          </a:prstGeom>
          <a:ln w="0">
            <a:noFill/>
          </a:ln>
        </p:spPr>
      </p:pic>
      <p:sp>
        <p:nvSpPr>
          <p:cNvPr id="50" name="Управляющая кнопка: настраиваемая 12">
            <a:hlinkClick r:id="" action="ppaction://hlinkshowjump?jump=lastslide"/>
          </p:cNvPr>
          <p:cNvSpPr/>
          <p:nvPr/>
        </p:nvSpPr>
        <p:spPr>
          <a:xfrm>
            <a:off x="8215200" y="5929200"/>
            <a:ext cx="428760" cy="35748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25903" h="21600">
                <a:moveTo>
                  <a:pt x="0" y="0"/>
                </a:moveTo>
                <a:lnTo>
                  <a:pt x="25903" y="0"/>
                </a:lnTo>
                <a:lnTo>
                  <a:pt x="25903" y="21600"/>
                </a:lnTo>
                <a:lnTo>
                  <a:pt x="0" y="21600"/>
                </a:lnTo>
                <a:close/>
              </a:path>
              <a:path fill="lightenLess" w="25903" h="21600">
                <a:moveTo>
                  <a:pt x="0" y="0"/>
                </a:moveTo>
                <a:lnTo>
                  <a:pt x="25903" y="0"/>
                </a:lnTo>
                <a:lnTo>
                  <a:pt x="24503" y="1400"/>
                </a:lnTo>
                <a:lnTo>
                  <a:pt x="1400" y="1400"/>
                </a:lnTo>
                <a:close/>
              </a:path>
              <a:path fill="darken" w="25903" h="21600">
                <a:moveTo>
                  <a:pt x="25903" y="0"/>
                </a:moveTo>
                <a:lnTo>
                  <a:pt x="25903" y="21600"/>
                </a:lnTo>
                <a:lnTo>
                  <a:pt x="24503" y="20200"/>
                </a:lnTo>
                <a:lnTo>
                  <a:pt x="24503" y="1400"/>
                </a:lnTo>
                <a:close/>
              </a:path>
              <a:path fill="darkenLess" w="25903" h="21600">
                <a:moveTo>
                  <a:pt x="259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3" y="20200"/>
                </a:lnTo>
                <a:close/>
              </a:path>
              <a:path fill="lighten" w="259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гда прямой вопрос начинается с </a:t>
            </a: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спомогательного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или </a:t>
            </a: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одального</a:t>
            </a:r>
            <a:r>
              <a:rPr b="0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лагола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то косвенный вопрос присоединяется к главному предложению при помощи союзов </a:t>
            </a:r>
            <a:r>
              <a:rPr b="1" i="1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whether</a:t>
            </a: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ли </a:t>
            </a:r>
            <a:r>
              <a:rPr b="1" i="1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f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имеющих значение частицы </a:t>
            </a: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и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Далее производятся те же изменения, как и при обращении в косвенную речь вопроса, начинающегося с вопросительного слов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666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She asked:”Did John read the book?”</a:t>
            </a:r>
            <a:br>
              <a:rPr sz="4400"/>
            </a:b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he asked </a:t>
            </a:r>
            <a:r>
              <a:rPr b="1" i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f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John </a:t>
            </a:r>
            <a:r>
              <a:rPr b="1" i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ad read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book.</a:t>
            </a:r>
            <a:br>
              <a:rPr sz="4400"/>
            </a:b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He asked me: ’’Will you be here tomorrow?”</a:t>
            </a:r>
            <a:br>
              <a:rPr sz="4400"/>
            </a:b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e asked me </a:t>
            </a:r>
            <a:r>
              <a:rPr b="1" i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whether</a:t>
            </a: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 should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e </a:t>
            </a:r>
            <a:r>
              <a:rPr b="1" i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here the next day</a:t>
            </a: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8458200" y="6324480"/>
            <a:ext cx="457200" cy="3812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666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гда прямая речь представляет собой повелительное предложение, то при обращении её в косвенную производятся следующие изменения:</a:t>
            </a:r>
            <a:br>
              <a:rPr sz="3000"/>
            </a:b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Если прямая речь –</a:t>
            </a:r>
            <a:r>
              <a:rPr b="1" i="1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казание</a:t>
            </a:r>
            <a:r>
              <a:rPr b="0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,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то глагол </a:t>
            </a:r>
            <a:r>
              <a:rPr b="0" i="1" lang="en-US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o say</a:t>
            </a:r>
            <a:r>
              <a:rPr b="0" i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сказать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 словах, вводящих прямую речь, </a:t>
            </a:r>
            <a:r>
              <a:rPr b="0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меняется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глаголом </a:t>
            </a:r>
            <a:r>
              <a:rPr b="0" i="1" lang="en-US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o tell</a:t>
            </a:r>
            <a:r>
              <a:rPr b="0" i="1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i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леть</a:t>
            </a:r>
            <a:r>
              <a:rPr b="0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o order</a:t>
            </a:r>
            <a:r>
              <a:rPr b="0" i="1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i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казывать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Если прямая речь – </a:t>
            </a:r>
            <a:r>
              <a:rPr b="0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сьба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то глагол</a:t>
            </a:r>
            <a:r>
              <a:rPr b="0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o say</a:t>
            </a:r>
            <a:r>
              <a:rPr b="0" i="1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меняется глаголом </a:t>
            </a:r>
            <a:r>
              <a:rPr b="0" i="1" lang="en-US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o ask </a:t>
            </a:r>
            <a:r>
              <a:rPr b="0" i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сить</a:t>
            </a:r>
            <a:r>
              <a:rPr b="0" i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br>
              <a:rPr sz="3000"/>
            </a:b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</a:t>
            </a:r>
            <a:r>
              <a:rPr b="0" i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елительное наклонение 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меняется в косвенной речи </a:t>
            </a:r>
            <a:r>
              <a:rPr b="1" i="1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финитивом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Отрицательная форма заменяется </a:t>
            </a:r>
            <a:r>
              <a:rPr b="0" i="1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финитивом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с частицей </a:t>
            </a:r>
            <a:r>
              <a:rPr b="0" i="1" lang="en-US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o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She </a:t>
            </a:r>
            <a:r>
              <a:rPr b="1" i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aid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to him:”</a:t>
            </a:r>
            <a:r>
              <a:rPr b="1" i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me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at five o’clock.”</a:t>
            </a:r>
            <a:br>
              <a:rPr sz="4400"/>
            </a:b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he </a:t>
            </a:r>
            <a:r>
              <a:rPr b="1" i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old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him </a:t>
            </a:r>
            <a:r>
              <a:rPr b="1" i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o come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t five o’clock.</a:t>
            </a:r>
            <a:br>
              <a:rPr sz="4400"/>
            </a:b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I </a:t>
            </a:r>
            <a:r>
              <a:rPr b="1" i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aid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o her:”Please </a:t>
            </a:r>
            <a:r>
              <a:rPr b="1" i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ring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e a glass of water.”</a:t>
            </a:r>
            <a:br>
              <a:rPr sz="4400"/>
            </a:b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 </a:t>
            </a:r>
            <a:r>
              <a:rPr b="1" i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sked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her </a:t>
            </a:r>
            <a:r>
              <a:rPr b="1" i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o bring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e a glass of wate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8458200" y="6324480"/>
            <a:ext cx="457200" cy="3812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285840"/>
            <a:ext cx="9001080" cy="621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hoose the correct verb for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doctor  said to me that I 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shall/should)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st for a week.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He said that he 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is going/was going)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o learn Spanish.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He said that they 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were/ had been)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riends at school.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She asked if her knowledge of French 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is/was)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good.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The teacher asked who 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is/was)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resent 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that day/today)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He asked me where I 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study/studied).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. Mother ordered 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not to play/to not play)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 the street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2560" y="642600"/>
            <a:ext cx="9001080" cy="34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The doctor  said to me that I </a:t>
            </a:r>
            <a:r>
              <a:rPr b="1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should</a:t>
            </a: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rest for a week.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He said that he </a:t>
            </a:r>
            <a:r>
              <a:rPr b="1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was going </a:t>
            </a: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o learn Spanish.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He said that they </a:t>
            </a:r>
            <a:r>
              <a:rPr b="1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ad been </a:t>
            </a: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riends at school.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She asked if her knowledge of French </a:t>
            </a:r>
            <a:r>
              <a:rPr b="1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was </a:t>
            </a: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good.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The teacher asked who </a:t>
            </a:r>
            <a:r>
              <a:rPr b="1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was</a:t>
            </a: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present </a:t>
            </a:r>
            <a:r>
              <a:rPr b="1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hat day</a:t>
            </a: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He asked me where I </a:t>
            </a:r>
            <a:r>
              <a:rPr b="1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studied.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. Mother ordered </a:t>
            </a:r>
            <a:r>
              <a:rPr b="1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ot to play </a:t>
            </a: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 the stree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8458200" y="6324480"/>
            <a:ext cx="457200" cy="3812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ut them into Reported speech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“I’m going to the seaside soon,” she said.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“Does this bus stop next station?” asked Helen.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He asked her:”Are you working now?”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The teacher asked:”Can you play the piano?”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I asked her:”Why are you late?”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“Who has broken the window?” the teacher asked.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. “Look at this paper” he said.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. “Don’t go alone in the evening,” she said.</a:t>
            </a:r>
            <a:br>
              <a:rPr sz="3200"/>
            </a:br>
            <a:br>
              <a:rPr sz="43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She said that she </a:t>
            </a:r>
            <a:r>
              <a:rPr b="0" lang="en-US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was going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o the seaside soon.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Helen asked if that bus </a:t>
            </a:r>
            <a:r>
              <a:rPr b="0" lang="en-US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stopped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ollowing station.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He asked her if she </a:t>
            </a:r>
            <a:r>
              <a:rPr b="0" lang="en-US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was working then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The teacher asked if I </a:t>
            </a:r>
            <a:r>
              <a:rPr b="0" lang="en-US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could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play the piano.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I asked why she </a:t>
            </a:r>
            <a:r>
              <a:rPr b="0" lang="en-US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was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ate.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The teacher asked who </a:t>
            </a:r>
            <a:r>
              <a:rPr b="0" lang="en-US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had broken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window.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. He said </a:t>
            </a:r>
            <a:r>
              <a:rPr b="0" lang="en-US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to look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t </a:t>
            </a:r>
            <a:r>
              <a:rPr b="0" lang="en-US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that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paper.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. The teacher </a:t>
            </a:r>
            <a:r>
              <a:rPr b="0" lang="en-US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told not to go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lone in the eve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8458200" y="6324480"/>
            <a:ext cx="457200" cy="3812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760" y="1071360"/>
            <a:ext cx="8229600" cy="414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точники: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. Английский язык. 8 кл.: учеб. для общеобразоват. учреждений/ О. В. Авфанасьева, И. В. Михеева.-М.: Дрофа,2009.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. Английский язык.7-8 классы. Грамматика, лексика, чтение. Тесты и упражнения. Тренировочная тетрадь. Фоменко Е. А., Долгопольская И. Б. – Ростов-на-Дону: Легион, 2011.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 Практическая грамматика английского языка. Израилевич Е. Е., Качалова К. Н. – Москва, «Юнвес», 1995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Управляющая кнопка: настраиваемая 4"/>
          <p:cNvSpPr/>
          <p:nvPr/>
        </p:nvSpPr>
        <p:spPr>
          <a:xfrm>
            <a:off x="8072280" y="621504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0"/>
          <a:ext cx="9144000" cy="6643800"/>
        </p:xfrm>
        <a:graphic>
          <a:graphicData uri="http://schemas.openxmlformats.org/drawingml/2006/table">
            <a:tbl>
              <a:tblPr/>
              <a:tblGrid>
                <a:gridCol w="2065320"/>
                <a:gridCol w="2433600"/>
                <a:gridCol w="2432160"/>
                <a:gridCol w="2212920"/>
              </a:tblGrid>
              <a:tr h="221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вед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авила последовательности времё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имер №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имер №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имер №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ме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казательных  местоимений и наречий времени и ме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просительные предло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пециальные воп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щие</a:t>
                      </a: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п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овелительные предло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Test 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Test 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Rectangle 34"/>
          <p:cNvSpPr/>
          <p:nvPr/>
        </p:nvSpPr>
        <p:spPr>
          <a:xfrm>
            <a:off x="1500120" y="1785960"/>
            <a:ext cx="228600" cy="228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Rectangle 35"/>
          <p:cNvSpPr/>
          <p:nvPr/>
        </p:nvSpPr>
        <p:spPr>
          <a:xfrm>
            <a:off x="3929040" y="1785960"/>
            <a:ext cx="228600" cy="228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Rectangle 36"/>
          <p:cNvSpPr/>
          <p:nvPr/>
        </p:nvSpPr>
        <p:spPr>
          <a:xfrm>
            <a:off x="6215040" y="1714680"/>
            <a:ext cx="228600" cy="228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Rectangle 37"/>
          <p:cNvSpPr/>
          <p:nvPr/>
        </p:nvSpPr>
        <p:spPr>
          <a:xfrm>
            <a:off x="8501040" y="1714680"/>
            <a:ext cx="228600" cy="228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Rectangle 39"/>
          <p:cNvSpPr/>
          <p:nvPr/>
        </p:nvSpPr>
        <p:spPr>
          <a:xfrm>
            <a:off x="1571760" y="3857760"/>
            <a:ext cx="228600" cy="228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4000680" y="4000680"/>
            <a:ext cx="228600" cy="228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Rectangle 41"/>
          <p:cNvSpPr/>
          <p:nvPr/>
        </p:nvSpPr>
        <p:spPr>
          <a:xfrm>
            <a:off x="6286680" y="3929040"/>
            <a:ext cx="228600" cy="228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Rectangle 42"/>
          <p:cNvSpPr/>
          <p:nvPr/>
        </p:nvSpPr>
        <p:spPr>
          <a:xfrm>
            <a:off x="8501040" y="3857760"/>
            <a:ext cx="228600" cy="228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Rectangle 44"/>
          <p:cNvSpPr/>
          <p:nvPr/>
        </p:nvSpPr>
        <p:spPr>
          <a:xfrm>
            <a:off x="1643040" y="6072120"/>
            <a:ext cx="228600" cy="228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Rectangle 46"/>
          <p:cNvSpPr/>
          <p:nvPr/>
        </p:nvSpPr>
        <p:spPr>
          <a:xfrm>
            <a:off x="8501040" y="6072120"/>
            <a:ext cx="228600" cy="228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Rectangle 47"/>
          <p:cNvSpPr/>
          <p:nvPr/>
        </p:nvSpPr>
        <p:spPr>
          <a:xfrm>
            <a:off x="6357960" y="6072120"/>
            <a:ext cx="228600" cy="228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Rectangle 48"/>
          <p:cNvSpPr/>
          <p:nvPr/>
        </p:nvSpPr>
        <p:spPr>
          <a:xfrm>
            <a:off x="3857760" y="6072120"/>
            <a:ext cx="228600" cy="228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AutoShape 54"/>
          <p:cNvSpPr/>
          <p:nvPr/>
        </p:nvSpPr>
        <p:spPr>
          <a:xfrm>
            <a:off x="285840" y="3857760"/>
            <a:ext cx="457200" cy="304560"/>
          </a:xfrm>
          <a:prstGeom prst="leftArrow">
            <a:avLst>
              <a:gd name="adj1" fmla="val 50000"/>
              <a:gd name="adj2" fmla="val 375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чь какого-нибудь лица, передаваемая буквально так, как она была произнесена, называется прямой речью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rect speech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чь, передаваемая не слово в слово, а только по содержанию, в виде дополнительных придаточных предложений, называется косвенной речью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ported speech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428840" y="5286240"/>
            <a:ext cx="6400800" cy="2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4200" y="2000160"/>
            <a:ext cx="848376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ямая речь может представлять собой:</a:t>
            </a:r>
            <a:br>
              <a:rPr sz="4900"/>
            </a:br>
            <a:r>
              <a:rPr b="0" lang="ru-RU" sz="4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1.повествовательное предложение</a:t>
            </a:r>
            <a:br>
              <a:rPr sz="4800"/>
            </a:br>
            <a:r>
              <a:rPr b="0" lang="ru-RU" sz="4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2.вопросительное предложение</a:t>
            </a:r>
            <a:br>
              <a:rPr sz="4800"/>
            </a:br>
            <a:r>
              <a:rPr b="0" lang="ru-RU" sz="4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3.повелительное предложе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714680"/>
            <a:ext cx="885816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mbria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mbria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8458200" y="6324480"/>
            <a:ext cx="380880" cy="3049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571320"/>
            <a:ext cx="378612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esent Simple</a:t>
            </a:r>
            <a:br>
              <a:rPr sz="2900"/>
            </a:br>
            <a:br>
              <a:rPr sz="2900"/>
            </a:br>
            <a:r>
              <a:rPr b="0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st Simple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5214960" y="357120"/>
            <a:ext cx="3643200" cy="17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esent Progressiv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st Progressiv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1071720" y="2571840"/>
            <a:ext cx="292896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st Simpl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st Perfec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5143680" y="2571840"/>
            <a:ext cx="378612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esent Perfec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st Perfec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500040" y="4714920"/>
            <a:ext cx="43578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esent Perfect Progressiv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st Perfect Progressiv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Стрелка вниз 9"/>
          <p:cNvSpPr/>
          <p:nvPr/>
        </p:nvSpPr>
        <p:spPr>
          <a:xfrm>
            <a:off x="1643040" y="107172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Стрелка вниз 10"/>
          <p:cNvSpPr/>
          <p:nvPr/>
        </p:nvSpPr>
        <p:spPr>
          <a:xfrm>
            <a:off x="6286680" y="1357200"/>
            <a:ext cx="571320" cy="357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Стрелка вниз 11"/>
          <p:cNvSpPr/>
          <p:nvPr/>
        </p:nvSpPr>
        <p:spPr>
          <a:xfrm>
            <a:off x="1643040" y="314316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Стрелка вниз 12"/>
          <p:cNvSpPr/>
          <p:nvPr/>
        </p:nvSpPr>
        <p:spPr>
          <a:xfrm>
            <a:off x="5786280" y="314316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Стрелка вниз 13"/>
          <p:cNvSpPr/>
          <p:nvPr/>
        </p:nvSpPr>
        <p:spPr>
          <a:xfrm>
            <a:off x="1928880" y="5286240"/>
            <a:ext cx="571320" cy="357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TextBox 14"/>
          <p:cNvSpPr/>
          <p:nvPr/>
        </p:nvSpPr>
        <p:spPr>
          <a:xfrm>
            <a:off x="5286240" y="4429080"/>
            <a:ext cx="385776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uture Simpl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uture-in-the-pas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Стрелка вниз 15"/>
          <p:cNvSpPr/>
          <p:nvPr/>
        </p:nvSpPr>
        <p:spPr>
          <a:xfrm>
            <a:off x="6143760" y="5000760"/>
            <a:ext cx="6429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292896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go/goe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w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8534520" y="6324480"/>
            <a:ext cx="380880" cy="3812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5286240" y="285840"/>
            <a:ext cx="3143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am/is/are go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was/were go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1143000" y="1928880"/>
            <a:ext cx="2571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w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had g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5429160" y="2000160"/>
            <a:ext cx="342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have / has g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had g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857160" y="4000680"/>
            <a:ext cx="3571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have/has been go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had been go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Стрелка вниз 10"/>
          <p:cNvSpPr/>
          <p:nvPr/>
        </p:nvSpPr>
        <p:spPr>
          <a:xfrm>
            <a:off x="1428840" y="92880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Стрелка вниз 11"/>
          <p:cNvSpPr/>
          <p:nvPr/>
        </p:nvSpPr>
        <p:spPr>
          <a:xfrm>
            <a:off x="6286680" y="92880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Стрелка вниз 12"/>
          <p:cNvSpPr/>
          <p:nvPr/>
        </p:nvSpPr>
        <p:spPr>
          <a:xfrm>
            <a:off x="6357960" y="2714760"/>
            <a:ext cx="4287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Стрелка вниз 13"/>
          <p:cNvSpPr/>
          <p:nvPr/>
        </p:nvSpPr>
        <p:spPr>
          <a:xfrm>
            <a:off x="1500120" y="2571840"/>
            <a:ext cx="4287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Стрелка вниз 14"/>
          <p:cNvSpPr/>
          <p:nvPr/>
        </p:nvSpPr>
        <p:spPr>
          <a:xfrm>
            <a:off x="1571760" y="471492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TextBox 15"/>
          <p:cNvSpPr/>
          <p:nvPr/>
        </p:nvSpPr>
        <p:spPr>
          <a:xfrm>
            <a:off x="5357880" y="4000680"/>
            <a:ext cx="328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shall/will 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should/would 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Стрелка вниз 16"/>
          <p:cNvSpPr/>
          <p:nvPr/>
        </p:nvSpPr>
        <p:spPr>
          <a:xfrm>
            <a:off x="6286680" y="4572000"/>
            <a:ext cx="6426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John said: “I live in New York.”</a:t>
            </a:r>
            <a:br>
              <a:rPr sz="5400"/>
            </a:br>
            <a:r>
              <a:rPr b="0" lang="en-US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John said (that) </a:t>
            </a:r>
            <a:r>
              <a:rPr b="1" i="1" lang="en-US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e lived </a:t>
            </a:r>
            <a:r>
              <a:rPr b="0" lang="en-US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 New York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9680" y="356760"/>
            <a:ext cx="8643960" cy="389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ob said: “I am learning French.”</a:t>
            </a:r>
            <a:br>
              <a:rPr sz="6000"/>
            </a:b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ob said </a:t>
            </a:r>
            <a:r>
              <a:rPr b="1" i="1" lang="en-US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e was learning </a:t>
            </a: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rench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8458200" y="6248520"/>
            <a:ext cx="380880" cy="3808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07:26:35Z</dcterms:created>
  <dc:creator>user</dc:creator>
  <dc:description/>
  <dc:language>en-US</dc:language>
  <cp:lastModifiedBy>Дом</cp:lastModifiedBy>
  <dcterms:modified xsi:type="dcterms:W3CDTF">2012-03-30T14:35:13Z</dcterms:modified>
  <cp:revision>63</cp:revision>
  <dc:subject/>
  <dc:title>Слайд 1</dc:title>
</cp:coreProperties>
</file>